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975-6B49-42AC-9E56-F053FE62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C1D-F9EC-4556-8855-7EB19CB4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020-46A9-47CB-98D5-CC735F11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511-AD45-4E63-B708-EA56812F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235-46BA-4690-A635-7653B1D0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B6B-1983-4F12-9D6C-F08F4535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F18-E89C-404B-A8A5-882FACC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C3D-FF81-4B4B-A399-F91B9E72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87A-FB25-4C99-9D28-A6129F4C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89D-D1BF-4618-8395-30F4CDBC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B99-5A22-4211-992A-7927825C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0E0-0C19-4032-8F3D-883168A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5380-EA8A-4263-AEC3-3F2A372D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THE INFORMATION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6 Step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1"/>
          <p:cNvPicPr/>
          <p:nvPr/>
        </p:nvPicPr>
        <p:blipFill>
          <a:blip r:embed="rId1"/>
          <a:stretch/>
        </p:blipFill>
        <p:spPr>
          <a:xfrm>
            <a:off x="7524720" y="333360"/>
            <a:ext cx="119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rgan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LOGO1"/>
          <p:cNvPicPr/>
          <p:nvPr/>
        </p:nvPicPr>
        <p:blipFill>
          <a:blip r:embed="rId1"/>
          <a:stretch/>
        </p:blipFill>
        <p:spPr>
          <a:xfrm>
            <a:off x="7667640" y="260280"/>
            <a:ext cx="119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Defin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o I really want to find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y do I need to find this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are the key words and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deas of the tas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o I need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OGO1"/>
          <p:cNvPicPr/>
          <p:nvPr/>
        </p:nvPicPr>
        <p:blipFill>
          <a:blip r:embed="rId1"/>
          <a:stretch/>
        </p:blipFill>
        <p:spPr>
          <a:xfrm>
            <a:off x="759636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50920" y="189000"/>
            <a:ext cx="1582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95280" y="299736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5080" y="3860640"/>
            <a:ext cx="16804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m I on t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2. Locat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o I already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o I still need to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ere can I find the informatio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sources can I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OGO1"/>
          <p:cNvPicPr/>
          <p:nvPr/>
        </p:nvPicPr>
        <p:blipFill>
          <a:blip r:embed="rId1"/>
          <a:stretch/>
        </p:blipFill>
        <p:spPr>
          <a:xfrm>
            <a:off x="759636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95280" y="4869000"/>
            <a:ext cx="158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070160" y="5805360"/>
            <a:ext cx="401364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ave I used a variety of resour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569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3. Selecting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at information do I really need to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at information can I leave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relevant is the information I have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credible is the information I have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will I record the information I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OGO1"/>
          <p:cNvPicPr/>
          <p:nvPr/>
        </p:nvPicPr>
        <p:blipFill>
          <a:blip r:embed="rId1"/>
          <a:stretch/>
        </p:blipFill>
        <p:spPr>
          <a:xfrm>
            <a:off x="759636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50920" y="5300640"/>
            <a:ext cx="1582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436360" y="5734080"/>
            <a:ext cx="3179880" cy="642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s the information relev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oes it have author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4. Organis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can I best use the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ave I enough information for my 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o I need to use all this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can I best combine information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fferent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OGO1"/>
          <p:cNvPicPr/>
          <p:nvPr/>
        </p:nvPicPr>
        <p:blipFill>
          <a:blip r:embed="rId1"/>
          <a:stretch/>
        </p:blipFill>
        <p:spPr>
          <a:xfrm>
            <a:off x="759636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5300640"/>
            <a:ext cx="151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708360" y="5877000"/>
            <a:ext cx="509904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s my draft an accurate response to the t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5. Present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ow am I to present my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t is original work because I have THOUGHT about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LOGO1"/>
          <p:cNvPicPr/>
          <p:nvPr/>
        </p:nvPicPr>
        <p:blipFill>
          <a:blip r:embed="rId1"/>
          <a:stretch/>
        </p:blipFill>
        <p:spPr>
          <a:xfrm>
            <a:off x="752472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6804000" y="5013360"/>
            <a:ext cx="158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828000" y="5950080"/>
            <a:ext cx="434736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ave I completed all parts of the t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99"/>
                </a:solidFill>
                <a:latin typeface="Arial"/>
              </a:rPr>
              <a:t>6. Evaluating: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did I learn from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ow did I go – with each step of the Informa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ow did I go – presenting the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OGO1"/>
          <p:cNvPicPr/>
          <p:nvPr/>
        </p:nvPicPr>
        <p:blipFill>
          <a:blip r:embed="rId1"/>
          <a:stretch/>
        </p:blipFill>
        <p:spPr>
          <a:xfrm>
            <a:off x="7524720" y="333360"/>
            <a:ext cx="1190520" cy="1251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948360" y="4941720"/>
            <a:ext cx="158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cc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cc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80000" y="5445000"/>
            <a:ext cx="2419560" cy="1191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fle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was diffic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was e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ow could I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3348000" y="476280"/>
            <a:ext cx="266544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derstand th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732720" y="1773360"/>
            <a:ext cx="2232000" cy="985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c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227640" y="4221000"/>
            <a:ext cx="2664000" cy="1079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lect relev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843280" y="5157720"/>
            <a:ext cx="3097080" cy="1224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GAN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nnect usefu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79280" y="3500280"/>
            <a:ext cx="2484720" cy="1130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esent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ndersta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539640" y="1773360"/>
            <a:ext cx="194472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9"/>
          <p:cNvSpPr/>
          <p:nvPr/>
        </p:nvSpPr>
        <p:spPr>
          <a:xfrm>
            <a:off x="1258920" y="2492280"/>
            <a:ext cx="217440" cy="1081080"/>
          </a:xfrm>
          <a:prstGeom prst="upArrow">
            <a:avLst>
              <a:gd name="adj1" fmla="val 50000"/>
              <a:gd name="adj2" fmla="val 124296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3"/>
          <p:cNvSpPr/>
          <p:nvPr/>
        </p:nvSpPr>
        <p:spPr>
          <a:xfrm rot="2843400">
            <a:off x="2339640" y="4797360"/>
            <a:ext cx="1143000" cy="343080"/>
          </a:xfrm>
          <a:prstGeom prst="leftRightArrow">
            <a:avLst>
              <a:gd name="adj1" fmla="val 50000"/>
              <a:gd name="adj2" fmla="val 663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4"/>
          <p:cNvSpPr/>
          <p:nvPr/>
        </p:nvSpPr>
        <p:spPr>
          <a:xfrm rot="19259400">
            <a:off x="5435280" y="5013000"/>
            <a:ext cx="1214280" cy="342720"/>
          </a:xfrm>
          <a:prstGeom prst="leftRightArrow">
            <a:avLst>
              <a:gd name="adj1" fmla="val 50000"/>
              <a:gd name="adj2" fmla="val 705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 rot="5400000">
            <a:off x="6939720" y="3293280"/>
            <a:ext cx="1655640" cy="342720"/>
          </a:xfrm>
          <a:prstGeom prst="leftRightArrow">
            <a:avLst>
              <a:gd name="adj1" fmla="val 50000"/>
              <a:gd name="adj2" fmla="val 961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6"/>
          <p:cNvSpPr/>
          <p:nvPr/>
        </p:nvSpPr>
        <p:spPr>
          <a:xfrm rot="2460000">
            <a:off x="5796000" y="1413000"/>
            <a:ext cx="1214280" cy="342720"/>
          </a:xfrm>
          <a:prstGeom prst="leftRightArrow">
            <a:avLst>
              <a:gd name="adj1" fmla="val 50000"/>
              <a:gd name="adj2" fmla="val 705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7"/>
          <p:cNvSpPr/>
          <p:nvPr/>
        </p:nvSpPr>
        <p:spPr>
          <a:xfrm>
            <a:off x="4427640" y="1268280"/>
            <a:ext cx="288720" cy="1008360"/>
          </a:xfrm>
          <a:prstGeom prst="upArrow">
            <a:avLst>
              <a:gd name="adj1" fmla="val 50000"/>
              <a:gd name="adj2" fmla="val 8731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0"/>
          <p:cNvSpPr/>
          <p:nvPr/>
        </p:nvSpPr>
        <p:spPr>
          <a:xfrm rot="3913800">
            <a:off x="6122880" y="2093400"/>
            <a:ext cx="292320" cy="1089360"/>
          </a:xfrm>
          <a:prstGeom prst="upArrow">
            <a:avLst>
              <a:gd name="adj1" fmla="val 50000"/>
              <a:gd name="adj2" fmla="val 93165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1"/>
          <p:cNvSpPr/>
          <p:nvPr/>
        </p:nvSpPr>
        <p:spPr>
          <a:xfrm rot="8267400">
            <a:off x="5872320" y="3309480"/>
            <a:ext cx="287280" cy="1125720"/>
          </a:xfrm>
          <a:prstGeom prst="upArrow">
            <a:avLst>
              <a:gd name="adj1" fmla="val 50000"/>
              <a:gd name="adj2" fmla="val 97964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 rot="10800000">
            <a:off x="4356000" y="3715920"/>
            <a:ext cx="287280" cy="1513080"/>
          </a:xfrm>
          <a:prstGeom prst="upArrow">
            <a:avLst>
              <a:gd name="adj1" fmla="val 50000"/>
              <a:gd name="adj2" fmla="val 13167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539640" y="5084640"/>
            <a:ext cx="158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7"/>
          <p:cNvSpPr/>
          <p:nvPr/>
        </p:nvSpPr>
        <p:spPr>
          <a:xfrm rot="13957800">
            <a:off x="2627640" y="3213000"/>
            <a:ext cx="360360" cy="1079640"/>
          </a:xfrm>
          <a:prstGeom prst="upArrow">
            <a:avLst>
              <a:gd name="adj1" fmla="val 50000"/>
              <a:gd name="adj2" fmla="val 749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916360" y="2276640"/>
            <a:ext cx="3168360" cy="1490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heck your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1:36:33Z</dcterms:created>
  <dc:creator>tss</dc:creator>
  <dc:description/>
  <dc:language>en-US</dc:language>
  <cp:lastModifiedBy>02216805</cp:lastModifiedBy>
  <dcterms:modified xsi:type="dcterms:W3CDTF">2009-10-12T03:53:43Z</dcterms:modified>
  <cp:revision>11</cp:revision>
  <dc:subject/>
  <dc:title>THE INFORMATION PROCESS</dc:title>
</cp:coreProperties>
</file>